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34D-A5F6-45AE-B904-444D0077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A3F-E427-48CB-B252-97F3FFC0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C66-AD9B-4675-93FF-941E1760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797-9BA9-4A8B-828A-00370105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4909-191A-43D1-BB4F-3DABD899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48C7-9976-4F3C-B626-46388F93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D01E-2DB2-426F-9539-B5F709E4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1020-FE55-48F0-BE83-3EF81A6F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9B9A-B3C2-4955-BE65-5F9EDCEB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480C-995B-48BE-A7A8-BDA8090B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5C3C-73E6-4A4F-A778-1AF42B9E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B98-279C-4FCD-BD0C-8570D58A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D3B1-078A-44D3-8F5D-DE5243AD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3438-89D8-4C57-81CF-084E7526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3095-DEA0-4422-8A07-AD814FFE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CC6A-8F75-4269-8A9D-841E0347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32F5-6451-44EC-A802-10B08EAD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8EB-60A9-471C-9D52-88CED873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C00-369A-4D36-8FA6-B64B1ADA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C78-D4DE-4DEB-900D-52B7C5EF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DFF-5E20-4B87-8D7B-DDD6618F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AB5-4AD7-4E07-8B15-F5F0D20C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ED2-5690-42BC-A917-D1EFAE94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CC8-1B18-4021-AE30-20505B61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3080" y="-14400"/>
            <a:ext cx="1521000" cy="6923160"/>
            <a:chOff x="-73080" y="-14400"/>
            <a:chExt cx="1521000" cy="6923160"/>
          </a:xfrm>
        </p:grpSpPr>
        <p:grpSp>
          <p:nvGrpSpPr>
            <p:cNvPr id="1" name=""/>
            <p:cNvGrpSpPr/>
            <p:nvPr/>
          </p:nvGrpSpPr>
          <p:grpSpPr>
            <a:xfrm>
              <a:off x="-73080" y="-14400"/>
              <a:ext cx="1521000" cy="6923160"/>
              <a:chOff x="-73080" y="-14400"/>
              <a:chExt cx="1521000" cy="6923160"/>
            </a:xfrm>
          </p:grpSpPr>
          <p:sp>
            <p:nvSpPr>
              <p:cNvPr id="2" name=""/>
              <p:cNvSpPr/>
              <p:nvPr/>
            </p:nvSpPr>
            <p:spPr>
              <a:xfrm>
                <a:off x="-73080" y="-14400"/>
                <a:ext cx="1521000" cy="692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-17640" y="171360"/>
                <a:ext cx="1460520" cy="179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-73080" y="1890720"/>
                <a:ext cx="1521000" cy="5014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3d6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" name=""/>
            <p:cNvSpPr/>
            <p:nvPr/>
          </p:nvSpPr>
          <p:spPr>
            <a:xfrm>
              <a:off x="152280" y="2133720"/>
              <a:ext cx="152640" cy="47228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2514600"/>
              <a:ext cx="152280" cy="434196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3733920"/>
              <a:ext cx="152280" cy="31226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3505320"/>
              <a:ext cx="152640" cy="33512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62C8-99E8-453B-95BF-69D33E5534DD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-22320" y="3240"/>
            <a:ext cx="1470240" cy="6869160"/>
            <a:chOff x="-22320" y="3240"/>
            <a:chExt cx="1470240" cy="6869160"/>
          </a:xfrm>
        </p:grpSpPr>
        <p:sp>
          <p:nvSpPr>
            <p:cNvPr id="51" name=""/>
            <p:cNvSpPr/>
            <p:nvPr/>
          </p:nvSpPr>
          <p:spPr>
            <a:xfrm>
              <a:off x="-22320" y="3240"/>
              <a:ext cx="1470240" cy="686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-22320" y="3200400"/>
              <a:ext cx="1470240" cy="36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3d6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-17640" y="1619280"/>
              <a:ext cx="1460520" cy="179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"/>
            <p:cNvGrpSpPr/>
            <p:nvPr/>
          </p:nvGrpSpPr>
          <p:grpSpPr>
            <a:xfrm>
              <a:off x="152280" y="3581280"/>
              <a:ext cx="1067040" cy="3275280"/>
              <a:chOff x="152280" y="3581280"/>
              <a:chExt cx="1067040" cy="3275280"/>
            </a:xfrm>
          </p:grpSpPr>
          <p:sp>
            <p:nvSpPr>
              <p:cNvPr id="55" name=""/>
              <p:cNvSpPr/>
              <p:nvPr/>
            </p:nvSpPr>
            <p:spPr>
              <a:xfrm>
                <a:off x="152280" y="3581280"/>
                <a:ext cx="152640" cy="327528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44800"/>
                <a:ext cx="152280" cy="301176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2120" y="4691160"/>
                <a:ext cx="152280" cy="216540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66680" y="4533840"/>
                <a:ext cx="152640" cy="232272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0F15-23CB-453D-A9C4-FB68E93C7E39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1549440"/>
            <a:ext cx="8001000" cy="355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et's get started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20:41:59Z</dcterms:created>
  <dc:creator>Marilyn Western</dc:creator>
  <dc:description/>
  <dc:language>en-US</dc:language>
  <cp:lastModifiedBy>TTI, User</cp:lastModifiedBy>
  <dcterms:modified xsi:type="dcterms:W3CDTF">2003-07-11T21:07:41Z</dcterms:modified>
  <cp:revision>11</cp:revision>
  <dc:subject/>
  <dc:title>PowerPoint Presentation</dc:title>
</cp:coreProperties>
</file>